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FA1-62C1-471C-B0B4-FC9368CF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212-AB6A-405C-AC5C-AB630C70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B1E9D-769A-442E-AC4F-01BA392F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6F573-16DB-49CA-B317-CF83262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E9D46-6C3D-489D-8B64-F56D003E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9361D-CB73-4116-861A-0357F65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085BF-DDCF-43C7-B4BB-AEF2C7C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04327-5651-4D74-A240-988B483B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979F7-94C3-4D9F-A7D8-9C35B581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072F6-7F7A-4E06-8FEF-100DBFA7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0A7CB-2CEE-4FF0-A01C-F47304E6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9CFDD-F27E-4A33-BBE6-D4EE1C7F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90D-2939-4AA3-AD6F-3F9ED281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BBEF4-6814-4515-A85B-379744B3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3F005-5163-4BC1-8C1F-D7688B02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430F2-E781-4237-9FE6-F67B60CB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CB018-98C1-461A-93AC-66D24100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CE3C6-DBF3-45CE-8110-1137916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36006-52C9-40EA-9018-004F75D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A2BE6-6991-4570-8DA8-492E3425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6D079-E169-4F5A-A386-67F2D03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6C60B-D81C-474A-A6C2-EB317577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25773-1215-4D09-9249-D3B4A8C3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77E-DED7-46D7-A495-5E9B5059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6EE67-5307-43BD-B860-BA605026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6BA47-1C3D-453E-91AE-ACDADD1B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017E8-A393-415B-9519-7C2AF00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03CB7-1254-4D51-9D54-E3C0D65E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E4C91-458A-49FA-A36B-2C33CB9F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11B50-9B27-4DFF-990C-13059A95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E8831-FD82-4461-925A-BCAFA0A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7EAFB-17CB-4323-9705-ADD0FDF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CC1B0-10E4-4FBF-8E38-FFDE533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A6D8-322D-4097-A407-2B6C53D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8854-F3E1-4208-9D8B-CD72ADFE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772B9-0B73-4D14-A078-88FBD0A8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B9B00-BC14-42B7-92F1-CFD30704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A70D2-21C8-462C-91AF-16883EE1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88E04-3ADE-4748-A350-C04E4AB0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66601-FF01-4AC9-BE0A-0DEDFFC6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9AAE6-FDBB-4B06-960B-8749DF62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7BB24-74C5-4A3C-89C9-294D7431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DB7DE-20EB-46D0-9428-098ABA01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DD2D9-16BB-4A7C-9062-3C0BB7E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5BBE6-438F-4E01-B9C3-27BA14D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9FF7-A5F8-49E9-AA86-C4B7AD48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B7849-51DF-40B4-9DAA-8FDF7A7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5A064-64F6-45B5-A2D8-8795735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B89C5-2BE9-45AF-9580-8D8E2A7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07971-8F04-4C6A-84AD-8CDA7824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CA317-BBC0-49D8-8E8E-52D2C552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2C594-DA3B-457A-82BD-021CB2AB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7C4AA-B1AE-4B8A-80EB-600A58D2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EB7E1-78FC-4DDF-AB30-B31E6C61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DC6AB-FB4C-4688-9414-418261D1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F3E64-9BEC-4318-BB2D-EFC9D7F5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1A1F-FA3D-4C3A-92F3-4EE3EC2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EE115-009E-4DE7-B788-16BEE706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43A20-BFE1-4D07-A4DD-DD122D0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8E9A0-C334-4BB2-8C18-A26373F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20ED7-A509-4792-ACBE-31E3941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2CFA5-1342-4FAE-90A5-F43655F2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F6F8F-2962-4645-B5DA-5BB53B35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E325A-5B8C-42BF-9107-986D5737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A9D2-FBAE-424A-BEA8-7581BDDC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CDEF-AB20-48E3-89AA-C1F949F4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6888-BF97-4131-8D1B-DFE9F4C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E2E6-6DB0-4B9F-8C1A-063BF81A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C8A-76E4-4843-BDB6-C63E96D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A1D4-9ED2-49F7-9F23-DCD098A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4EB5-B447-457D-ACC2-20220C8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AFC4-B3C6-4AD4-B8F5-7DC7CD5A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7EA8-B95A-4C3D-98FB-3D666853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6A6F-9EAE-460A-B6D8-14805BA7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17BB-0CA7-4BA9-A115-CB93D152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B005-A47C-46E4-A094-A498A369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D10A-4A5E-40A0-81B5-CEBE4927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57E5-F67B-429F-AFBB-7CEAB7C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EFAE-202B-475F-A4D4-9F188C7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AD7-DEA2-49BA-B612-F2BF533D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8894-EF1B-4A3D-BFB3-A45013A0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2451-B8E2-45A3-B6C4-8B2BCA3F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E472-A61E-4BBC-977B-8D897CB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72CB-494E-4271-B291-6508E33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349D-C1D8-402D-AE89-9F09252C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0831-58C5-4B9E-BC75-148A4CE6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26FC-3D45-4DAD-8F3C-FD49B39A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2D1B-1D14-4EB8-ACF7-7A03EEE2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E4EAC-5976-4475-A5CF-AC2C30D2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4C65-2F80-431A-BF8F-41C01526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7A0-1A75-42AC-A73C-F5A54D3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F556-E917-4F45-9265-A8E63190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52C9-6BC7-4617-8E72-1E917953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8A52-9F74-4D4E-B348-803366DD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7EF8-2B9C-453B-80F1-2CBD0D0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3E21-58B3-4EC3-B937-DE7AA3A9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4A85-44AE-45FE-872A-A9755CDF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6847-6D4D-4B01-8623-A766834C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8333-03B0-4A6C-A886-774A5CA8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369C-8DFF-42C1-9962-D77C2C98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EC95-9D0F-4BD2-9EB1-12336F86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A58-CD7A-40BB-A686-4AF61C2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455C-1EFA-465D-AA18-66867AE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1378-6024-47FA-9498-FB19696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26432-0FA9-4C53-B324-C156ED58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8132-340F-4A27-9151-6A7AE745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48BA-AFFD-4666-BF67-C5FCA3AC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AFDB-D9C9-49BE-887E-F41A6EF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4B2E-930B-4D68-B85B-F2CB3F44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AA1A-D2CF-43CE-B190-46C53E1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6D48C-B0DB-46A4-B9BB-70FEC00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C60A-8798-4F10-AA2B-A7D65A35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EE7-1291-4A85-AEC9-454E239E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81580-5EE2-4B49-9019-0AB25AD2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15006-258B-49E8-99AA-86202F09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CE82-2942-4CD1-9FEA-4CFF9A6D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1330B-8FC5-4C74-BE3A-C0B9D26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C89F-7F9D-4341-AB74-30461597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361C2-4588-4DB2-BD2C-4FCFE675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E5BF-B693-4113-8620-CB49E0FB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78A28-969E-49FB-9E80-13A1570E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6038C-20B1-4AEF-81FC-8705D9F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4B73-EF8B-443A-A575-1979577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D1C-8A01-4C4F-A7FB-224D8F9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1FEDB-FF14-4FB6-B39F-AC6244A4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B59F-ECA3-4480-8B0D-CC0E1FBF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57DB-114E-465F-AA5E-9D360EE7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92AD-0A35-4632-B34B-E142C858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3B50-9431-4052-ABB8-835B8868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C110D-C1B0-4A9B-AA32-E7B1E3CC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1121-D713-4F3B-9ABB-AE8A16C4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1B70B-D644-4536-B0C4-68629C0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256D1-20E4-4506-B9BB-1CD70DA7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AFD69-CBC1-4CC5-A0C3-EE4D5AEE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929-2388-4678-BC20-27D5ED11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67832-D521-4196-970E-2D38032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FB71E-FE81-4CCF-ADA1-3C58D348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9E4C-3E68-4A2A-92FF-37F151C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D75C-48DF-42A5-B2A0-677E6EA1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9D17-D218-4632-866E-5595697B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517A0-7BB9-4254-AB84-EB53CD2B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2439C-93AB-46AF-B041-2365187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B20E0-18E5-4A97-984D-BD5D9AEA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EA8C-432D-46EE-8701-0708C945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3FC4-4E85-412C-AA16-DAB5E941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5DF-8E9A-4B2F-975D-7BC6EB3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DF527-42D4-4091-A9F1-F3BBC546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2D05E-FDDC-4E55-B5F2-A628704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B476-D965-498C-BE63-53E7A70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551D8-8856-4B77-B7C1-D4C5C8F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40FCC-F1E9-4086-B1CD-B147D49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5466C-918F-498D-BE8F-CFD4CE56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53321-F61E-4473-9D58-E96EA3C2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B3A28-AEF6-42E9-A842-16376308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C216B-1509-4495-8318-E8A7EE52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441EC-9A0C-487B-94B4-4FE67BD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A2B-8779-4816-A63A-867BBA69B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29C0-9856-40F0-89C5-C6F65E8B9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A6DB-3F5B-47E8-B6E2-89A483DF8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54D7-8242-4147-9F2B-FE98EB1FC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4114-3F86-4950-9FC3-7AEA0368C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47BA-8DBC-4365-9B38-3D2A20AAA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0347-9A48-4F23-B1EE-560B20C54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10C4-6AFA-4ED6-9271-FFA5399E1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5F99-21EF-4EB2-AF79-2C2B05DCC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882D-300D-4987-82DD-A8149FE6EF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7FD-DA7C-40A9-A9BF-C2F724AEC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6378-C0FC-4C5C-8942-5F1CAA80E5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BD15-7C4A-4C81-B2C9-9CD0480F2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y8dk5iS1f0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Jocshym0TI4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WHO HELPED FORM OUR UNDERSTANDING OF DNA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History of DN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2933640" y="3657600"/>
            <a:ext cx="3276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The </a:t>
            </a: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RACE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to DNA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950’s had three schools looking to be the DNA champ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ifornia  Institute of Technology – Linus Paul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vendish in Cambridge, England – James Watson and Francis Cric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ing’s College in London – Maurice Wilkins &amp; Rosalind Frankli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tson’s small mistake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kins and Franklin…co-worker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kins and Watson…the perfect friendship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Watson &amp; Cric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Rosalind Frankil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ling to jump to conclus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backbones that go opposite dir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se pairing from one side to the o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– T &amp; C – 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bbor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backbone that go in the same dire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dsection cross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Watson and Crick vs. Frankl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[FRANKLIN] WOULD HAVE BEEN FAMOUS FOR HAVING FOUND DNA IF SHE'D JUST TALKED TO FRANCIS [CRICK] FOR AN HOUR." THE FACT THAT FRANKLIN DIDN'T TALK TO ANYONE, HER UNWILLINGNESS TO BUILD MODELS, AND HER STUBBORNNESS IN STICKING TO CLASSICAL MATHEMATICS HELD HER BACK IMMENSELY [JUDSON, 1986]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 Quote from Watson (1993)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tructure of DN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NA is a long molecule made up of units called nucleotid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ch nucleotide is made up of three parts: a 5-carbon sugar called dioxyribose, a phosphate group, and a nitorgenous base (Nitrogen Containing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backbone of DNA is formed by sugar and phosphate groups of the nucleotid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nitrogenous base stick out from the sides and can be joined together in any order, meaning that any sequence of bases is possibl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http://nanopedia.case.edu/image/DNA%20structure.jpg"/>
          <p:cNvPicPr/>
          <p:nvPr/>
        </p:nvPicPr>
        <p:blipFill>
          <a:blip r:embed="rId1"/>
          <a:stretch/>
        </p:blipFill>
        <p:spPr>
          <a:xfrm>
            <a:off x="1143000" y="1295280"/>
            <a:ext cx="6665760" cy="518184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DNA Basic Stru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Base Pairing - BON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1" name="Picture 2" descr="http://nanopedia.case.edu/image/Base%20Pairing.jpg"/>
          <p:cNvPicPr/>
          <p:nvPr/>
        </p:nvPicPr>
        <p:blipFill>
          <a:blip r:embed="rId1"/>
          <a:stretch/>
        </p:blipFill>
        <p:spPr>
          <a:xfrm>
            <a:off x="1346040" y="160020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DNA Video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2600" y="1908000"/>
            <a:ext cx="655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History of Geneti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ople have known about inheritance for a long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children resemble their par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domestication of animals and plants, selective breeding for good character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Sumerian horse breeding recor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Egyptian data palm bre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Bible and hemophil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Old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pite knowing about inheritance in general, a number of incorrect ideas had to be generated and overcome before modern genetics could aris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ll life comes from other life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Living organisms are not spontaneously generated from non-living materi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pecies concept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fspring arise only when two members of the same species mate. 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Monstrous hybrids don’t exis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More Old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680" y="1527120"/>
            <a:ext cx="754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rganisms develop by expressing information carried in their hereditary materi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As opposed to “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preforma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, the idea that in each sperm (or egg) is a tiny, fully-formed human that merely grows in siz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he environment can’t alter the hereditary material in a directed fashion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There is no “inheritance of acquired characteristics”.  Mutations are random ev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696080" y="1609560"/>
            <a:ext cx="12574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More Old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.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Male and female parents contribute equally to the offsp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ancient Greek idea: male plants a “seed” in the female “garden”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alleged New Guinea belief: sex is not related to reproduc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Key people in DNA’s Discove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Griffi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Experimented on mice and observed some harmless strains of bacteria could change into harmful strains.  He called this transform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griffithexperiment"/>
          <p:cNvPicPr/>
          <p:nvPr/>
        </p:nvPicPr>
        <p:blipFill>
          <a:blip r:embed="rId1"/>
          <a:stretch/>
        </p:blipFill>
        <p:spPr>
          <a:xfrm>
            <a:off x="291960" y="228600"/>
            <a:ext cx="8533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Key people in DNA’s Discove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ver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Discovered that DNA is the nucleic acid that stores and transmits the genetic information from one generation to the nex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Hershey-Cha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Concluded that the genetic material in bacteria was DNA not protei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Watson &amp; Crick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created the double helix model for DN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Chargaff’s Ru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rgaff discovered how the nitrogenous bases bond togeth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 discovered that Adeni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lway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nds with Thymine and that Cytosi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onds with Guan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5" descr="Life7e-Fig-11-05-0%20Chargaff's%20rule"/>
          <p:cNvPicPr/>
          <p:nvPr/>
        </p:nvPicPr>
        <p:blipFill>
          <a:blip r:embed="rId1"/>
          <a:stretch/>
        </p:blipFill>
        <p:spPr>
          <a:xfrm>
            <a:off x="4648320" y="2325600"/>
            <a:ext cx="4038480" cy="3079800"/>
          </a:xfrm>
          <a:prstGeom prst="rect">
            <a:avLst/>
          </a:prstGeom>
          <a:ln w="0">
            <a:noFill/>
          </a:ln>
        </p:spPr>
      </p:pic>
      <p:sp>
        <p:nvSpPr>
          <p:cNvPr id="676" name="TextBox 4"/>
          <p:cNvSpPr/>
          <p:nvPr/>
        </p:nvSpPr>
        <p:spPr>
          <a:xfrm>
            <a:off x="7675200" y="6019920"/>
            <a:ext cx="128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Video Cli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2:59:00Z</dcterms:created>
  <dc:creator>John AJ O'Connor</dc:creator>
  <dc:description/>
  <dc:language>en-US</dc:language>
  <cp:lastModifiedBy>joconnor</cp:lastModifiedBy>
  <dcterms:modified xsi:type="dcterms:W3CDTF">2010-11-30T13:49:12Z</dcterms:modified>
  <cp:revision>32</cp:revision>
  <dc:subject/>
  <dc:title>Slide 1</dc:title>
</cp:coreProperties>
</file>